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2A2-AA53-4238-BB22-7A8FC064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EF9-2D3B-4A0D-B382-43B6FB4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74A-6272-4FA3-A04F-93E7E300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A23-0082-4B50-83AF-1B459FB8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AF1-C7F0-4569-AC65-9CD6AAA8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DEA-7163-49D1-B62C-B7CE9389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6C6-36A5-4AB3-91A2-887D1AE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FA7-E9E0-424E-9AF3-68C4586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322-32B0-4897-9442-3DF4E1B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2D2-B782-4EE8-80AB-DF1B28D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1D4-EF24-4E5B-8FD3-8B4DEF1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59D-3A08-4FD6-9D59-6E9A425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688-6D5C-481E-A961-526CD434A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течественная война  1812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Х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02758814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лево 3"/>
          <p:cNvSpPr/>
          <p:nvPr/>
        </p:nvSpPr>
        <p:spPr>
          <a:xfrm>
            <a:off x="285840" y="5857920"/>
            <a:ext cx="428400" cy="4287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plan_borodino.jpg"/>
          <p:cNvPicPr/>
          <p:nvPr/>
        </p:nvPicPr>
        <p:blipFill>
          <a:blip r:embed="rId1"/>
          <a:stretch/>
        </p:blipFill>
        <p:spPr>
          <a:xfrm>
            <a:off x="571680" y="428760"/>
            <a:ext cx="8008920" cy="599436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лево 2"/>
          <p:cNvSpPr/>
          <p:nvPr/>
        </p:nvSpPr>
        <p:spPr>
          <a:xfrm>
            <a:off x="642960" y="6143760"/>
            <a:ext cx="428760" cy="42840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02155882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лево 2"/>
          <p:cNvSpPr/>
          <p:nvPr/>
        </p:nvSpPr>
        <p:spPr>
          <a:xfrm>
            <a:off x="428760" y="6429240"/>
            <a:ext cx="428400" cy="4287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zarganich_pokho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лево 2"/>
          <p:cNvSpPr/>
          <p:nvPr/>
        </p:nvSpPr>
        <p:spPr>
          <a:xfrm>
            <a:off x="357120" y="5786280"/>
            <a:ext cx="428760" cy="4287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1500120" y="50004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ины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хема 3" descr=""/>
          <p:cNvPicPr/>
          <p:nvPr/>
        </p:nvPicPr>
        <p:blipFill>
          <a:blip r:embed="rId1"/>
          <a:stretch/>
        </p:blipFill>
        <p:spPr>
          <a:xfrm>
            <a:off x="493560" y="1390680"/>
            <a:ext cx="801720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1680" y="1397160"/>
          <a:ext cx="8001000" cy="4968720"/>
        </p:xfrm>
        <a:graphic>
          <a:graphicData uri="http://schemas.openxmlformats.org/drawingml/2006/table">
            <a:tbl>
              <a:tblPr/>
              <a:tblGrid>
                <a:gridCol w="2071440"/>
                <a:gridCol w="59295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июня 1812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чало войны Вторжение французской армии в Россию. Отступление русской арм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-28 ию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беда конницы атамана М.И. Платова под Миром над польской кавалерийской дивизией генерала Рожнец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5228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ию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й при г. Кобрине. 3-я армия генерала А.П. Тормасова разбила и взяла в плен саксонскую бригаду генерал-майора Кенгеля. Первая крупная победа русског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o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руж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0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й под Красным между отрядом генерал-майора Д.П. Неверонского и войсками маршалов Мюрата и Нея. Соединение 1-й и 2-й русской армий в Смоленс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" name="TextBox 3"/>
          <p:cNvSpPr/>
          <p:nvPr/>
        </p:nvSpPr>
        <p:spPr>
          <a:xfrm>
            <a:off x="1714680" y="6429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1680" y="1397160"/>
          <a:ext cx="8001000" cy="4643280"/>
        </p:xfrm>
        <a:graphic>
          <a:graphicData uri="http://schemas.openxmlformats.org/drawingml/2006/table">
            <a:tbl>
              <a:tblPr/>
              <a:tblGrid>
                <a:gridCol w="2071440"/>
                <a:gridCol w="5929560"/>
              </a:tblGrid>
              <a:tr h="7682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5 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Смоленское сражение. Отступление русских пои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Назначение М.И.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утузова главнокомандую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25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Прибытие Кутузова в вой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Шевардинский 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Бородинское с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Военный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c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овет в Филях. Решение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o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б оставлении Москв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01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Вступление французов в Москву.  Тарутинские манев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арутинский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" name="TextBox 3"/>
          <p:cNvSpPr/>
          <p:nvPr/>
        </p:nvSpPr>
        <p:spPr>
          <a:xfrm>
            <a:off x="1714680" y="6429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1680" y="1428840"/>
          <a:ext cx="8072280" cy="4491000"/>
        </p:xfrm>
        <a:graphic>
          <a:graphicData uri="http://schemas.openxmlformats.org/drawingml/2006/table">
            <a:tbl>
              <a:tblPr/>
              <a:tblGrid>
                <a:gridCol w="2143080"/>
                <a:gridCol w="5929200"/>
              </a:tblGrid>
              <a:tr h="428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Оставление Москвы францу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Сражение при Малоярослав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21824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 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Бой при Чашниках. Победа русских войск под командованием П.Х. Витгенштей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над французскими войсками маршала Уди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Сражение при Вязь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но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Бой при Смолянке. Победа войск Витгенштейна над корпусами маршалов Удино и Ви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—6 но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Сражение под Красным. Поражение францу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102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—16 но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Сражение на р. Березине. Переправа Наполеона через Берез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3"/>
          <p:cNvSpPr/>
          <p:nvPr/>
        </p:nvSpPr>
        <p:spPr>
          <a:xfrm>
            <a:off x="1714680" y="4287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1680" y="1428840"/>
          <a:ext cx="8072280" cy="2571840"/>
        </p:xfrm>
        <a:graphic>
          <a:graphicData uri="http://schemas.openxmlformats.org/drawingml/2006/table">
            <a:tbl>
              <a:tblPr/>
              <a:tblGrid>
                <a:gridCol w="2090520"/>
                <a:gridCol w="5981760"/>
              </a:tblGrid>
              <a:tr h="10713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дека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Переправа остатков «Великой армии» через Неман и занятие русскими войсками г. Ко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Переход русских войск через Не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288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Манифест Александра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I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 об окончании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3"/>
          <p:cNvSpPr/>
          <p:nvPr/>
        </p:nvSpPr>
        <p:spPr>
          <a:xfrm>
            <a:off x="1714680" y="4287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571760" y="6429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раничные  походы  русской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397160"/>
          <a:ext cx="8143920" cy="4389120"/>
        </p:xfrm>
        <a:graphic>
          <a:graphicData uri="http://schemas.openxmlformats.org/drawingml/2006/table">
            <a:tbl>
              <a:tblPr/>
              <a:tblGrid>
                <a:gridCol w="2000160"/>
                <a:gridCol w="6143760"/>
              </a:tblGrid>
              <a:tr h="119052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 181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усская армия во главе с М.И. Кутузов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ерешла западную границу и очист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т французов польские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—март 181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свобождение от Наполеона Пруссии, которая заключила с Россией союзнически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 181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мерть М.И. Кутуз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24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—май 181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ражение союзных войск от Наполеона в битвах при Лютцене и при Бауцене в Пруссии. Заключение перемирия с Фран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571760" y="6429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раничные  походы  русской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0040" y="1397160"/>
          <a:ext cx="8143920" cy="4603680"/>
        </p:xfrm>
        <a:graphic>
          <a:graphicData uri="http://schemas.openxmlformats.org/drawingml/2006/table">
            <a:tbl>
              <a:tblPr/>
              <a:tblGrid>
                <a:gridCol w="2000160"/>
                <a:gridCol w="6143760"/>
              </a:tblGrid>
              <a:tr h="16650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 181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Формирование 5-й антифранцузской коалиции в составе России. Пруссии, Англии, Швеции и Австрии. Возобновление военных 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7 октября 181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Битва народов» под Лейпцигом. Поражение Наполеона и его отступление к границам Фра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2492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—март 181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яд побед Наполеона над союзниками, которые, однако, не смогли предотвратить их поход на Пари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марта 181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ахват союзниками столицы Фра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571760" y="6429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раничные  походы  русской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00040" y="1397160"/>
          <a:ext cx="8143920" cy="4246560"/>
        </p:xfrm>
        <a:graphic>
          <a:graphicData uri="http://schemas.openxmlformats.org/drawingml/2006/table">
            <a:tbl>
              <a:tblPr/>
              <a:tblGrid>
                <a:gridCol w="2000160"/>
                <a:gridCol w="6143760"/>
              </a:tblGrid>
              <a:tr h="10620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а 181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Отречение Наполеона от престола и ссылка его на о. Эльба в Средиземном м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45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я 181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Подписание Парижского мирного договора между Францией и участниками 5-й антифранцузской коалиции. Решение союзных государств созвать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  <a:ea typeface="Times New Roman"/>
                        </a:rPr>
                        <a:t>в Вене конгресс для утверждения новой системы отношений в Европ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9:51:51Z</dcterms:created>
  <dc:creator>Admin</dc:creator>
  <dc:description/>
  <dc:language>en-US</dc:language>
  <cp:lastModifiedBy>Admin</cp:lastModifiedBy>
  <dcterms:modified xsi:type="dcterms:W3CDTF">2010-02-23T20:07:25Z</dcterms:modified>
  <cp:revision>22</cp:revision>
  <dc:subject/>
  <dc:title>Отечественная война  1812 года</dc:title>
</cp:coreProperties>
</file>